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407-2765-4C9F-A63A-5CF7CCD9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D06-DF84-4458-9676-960A059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460-EC77-4CB8-A829-A4915107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D9C-EA7C-46A1-BB66-C0911CA0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539-DDD3-4157-8FF1-E47605D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518-D8F6-434A-8CA9-34022C4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918-88EA-43F6-B7B2-CB6D0372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CBB-99FC-4809-824F-643A9DF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159-F316-4639-A13D-28C40492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D71-ECD7-4FD1-9799-A1EE17D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681-ED5A-446E-ABAD-02C5FAE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44C-062B-41A2-8B70-4658FB4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4E0-14E6-44D0-9C41-45A82B19A8C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Industrialization</a:t>
            </a:r>
            <a:br>
              <a:rPr sz="4400"/>
            </a:br>
            <a:r>
              <a:rPr b="1" lang="en-US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Thonhauser / Kro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enQ RD 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9.04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3360" y="2130480"/>
            <a:ext cx="1235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000" y="692280"/>
            <a:ext cx="8893080" cy="5544000"/>
            <a:chOff x="108000" y="692280"/>
            <a:chExt cx="8893080" cy="5544000"/>
          </a:xfrm>
        </p:grpSpPr>
        <p:sp>
          <p:nvSpPr>
            <p:cNvPr id="47" name=""/>
            <p:cNvSpPr/>
            <p:nvPr/>
          </p:nvSpPr>
          <p:spPr>
            <a:xfrm>
              <a:off x="3348000" y="7635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ialization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4920" y="11239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. Thonha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08000" y="692280"/>
              <a:ext cx="8893080" cy="5544000"/>
              <a:chOff x="108000" y="692280"/>
              <a:chExt cx="8893080" cy="5544000"/>
            </a:xfrm>
          </p:grpSpPr>
          <p:sp>
            <p:nvSpPr>
              <p:cNvPr id="50" name=""/>
              <p:cNvSpPr/>
              <p:nvPr/>
            </p:nvSpPr>
            <p:spPr>
              <a:xfrm>
                <a:off x="2771640" y="692280"/>
                <a:ext cx="2778120" cy="695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4360" y="1700280"/>
                <a:ext cx="770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08000" y="1987560"/>
                <a:ext cx="1223640" cy="4248720"/>
                <a:chOff x="108000" y="1987560"/>
                <a:chExt cx="1223640" cy="4248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0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. Kroese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0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 Lea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0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 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rom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 M</a:t>
                  </a: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to M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presentativ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PD-Te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mber of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 (fo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only),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AL,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403280" y="1987560"/>
                <a:ext cx="1223640" cy="4248720"/>
                <a:chOff x="1403280" y="1987560"/>
                <a:chExt cx="1223640" cy="42487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40328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. Schra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40328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ginee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amp-Lintf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0328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imulation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0328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2700360" y="1987560"/>
                <a:ext cx="1223640" cy="4248720"/>
                <a:chOff x="2700360" y="1987560"/>
                <a:chExt cx="1223640" cy="4248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70036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Riesenegg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70036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70036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70036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995640" y="1987560"/>
                <a:ext cx="1223640" cy="4248720"/>
                <a:chOff x="3995640" y="1987560"/>
                <a:chExt cx="1223640" cy="4248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99564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U. Beek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99564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nova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99564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develop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f new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i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orm facto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cout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upp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sig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trate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9564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,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292720" y="1987560"/>
                <a:ext cx="1223640" cy="4248720"/>
                <a:chOff x="5292720" y="1987560"/>
                <a:chExt cx="1223640" cy="4248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9272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N.N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29272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P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29272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D Qualit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onito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fini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lanning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l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9272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588000" y="1987560"/>
                <a:ext cx="1223640" cy="4248720"/>
                <a:chOff x="6588000" y="1987560"/>
                <a:chExt cx="1223640" cy="4248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58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Becker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Bamberg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58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ayout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ata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58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PCB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E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8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885080" y="1987560"/>
                <a:ext cx="1116000" cy="4248720"/>
                <a:chOff x="7885080" y="1987560"/>
                <a:chExt cx="1116000" cy="4248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885080" y="1987560"/>
                  <a:ext cx="111600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. Mailän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885080" y="2469600"/>
                  <a:ext cx="111600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885080" y="3109680"/>
                  <a:ext cx="111600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85080" y="5755320"/>
                  <a:ext cx="111600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067280" y="14115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7964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200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6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88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380880" y="152280"/>
            <a:ext cx="757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al Setup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492280"/>
            <a:ext cx="107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2492280"/>
            <a:ext cx="10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Layout &amp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Data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3141720"/>
            <a:ext cx="11509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best-i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lass sta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and wor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viron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in 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ompete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enter “FP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AE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052640"/>
            <a:ext cx="84708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ality Support and -Monitoring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 interface to RD PTM, QM, SCM QM and Q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 and introduction of quality- and qualification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 audit of the fulfillment of the defined MD&amp;LP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 and Support of the global IND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cess Definition and –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 and maintenance of MD&amp;LPD Process Documentation &amp; Guidelin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lanning &amp;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to Business Administration in terms of planning/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nal support at Project planning and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M excellen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est in class, definition of K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ata controlling and reporting to IN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Work out of improvement measures and implementation in 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efinition of a common IND structure and form for any kind of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reation of general specification for all product categor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in Patent committ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mplementation of a Know How Management syste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ollection, Assorting and Distribution of information ( Homepages, EasyDM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640" y="54936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 Pro Quality- and Proces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89720" y="5493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I - Mechanical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484280"/>
            <a:ext cx="71121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redevelop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eate innovative technologies and assembly concepts (Derive product requirements to feel into Doors before M</a:t>
            </a:r>
            <a:r>
              <a:rPr b="1" lang="el-GR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D interface for all strategical industrial design issues during product definition ph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&amp;D of new technologies based on Design Strategy incl. prototype-tooling and coordination of process-verific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rket screening and Global Sourcing support for new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22200" y="549360"/>
            <a:ext cx="59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PL – Industrialization projec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strialization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adjustment, development and qualification of complete industrialization 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mechanical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of mechanical industrializatio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implementation of modularization and standardization in the produc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368640" y="54936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K &amp; MDM - Mechanical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268280"/>
            <a:ext cx="74419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Mechanical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best-in-class staff  and working environment in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management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“Mechanical simulation”  in K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708280"/>
            <a:ext cx="693396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, implementation and maintenance of CAD tools (HW and S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ve and aligned interfaces and data exchange to internal and external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document manage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manent assessment and improvement of system and system environ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ser groups and user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Benchma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Know How ex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484560" y="115920"/>
            <a:ext cx="70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LPK &amp; LPM – Layout and Produ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645000"/>
            <a:ext cx="744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 of rigid and flexible PC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ion of high density PCB layouts to fulfill miniaturization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reation of innovative FPC designs for slider, clam shell and clam/swive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to cost for PCBs (platform layer stack up; panel utilization; second sourc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724280"/>
            <a:ext cx="693396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arian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-Data for component procurement, logistics, manufacturing and service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nt management of delivery uni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620640"/>
            <a:ext cx="74422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ic Ta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D proces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for rigid (KLF) and flexible (Mch) PCB-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process align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ngoing competitor benchmark compar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face between R&amp;D and Supply Chain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ed component library to secure world wide manufacturing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ermann Thonhauser</cp:lastModifiedBy>
  <dcterms:modified xsi:type="dcterms:W3CDTF">2006-05-23T16:47:30Z</dcterms:modified>
  <cp:revision>125</cp:revision>
  <dc:subject/>
  <dc:title>PowerPoint 簡報</dc:title>
</cp:coreProperties>
</file>